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B4B-2160-4020-BA18-88C810CA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7B1-021B-4687-9977-D413FDBA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78E-8333-4AB7-942A-FC6395C0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2E2-C48F-4E7B-A071-C801B994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18F-7159-4F56-84D3-FF2F4CDF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F459-DCCC-4DD7-B06B-06EF246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E207-3378-484F-93DE-C33F3722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6267-BDD3-4195-919E-C8D6701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7D6D-B6C7-47A0-9F7F-44B0A79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AB84-61C7-4753-BD2B-2478B1B4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98AA-E683-40BC-BEA0-CC63D856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F5C-5273-4990-9287-CC64E329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9EBA-17FC-4B66-A12D-1546BC2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C122-0195-4EA7-B7C0-ACA9087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6A9A-B074-4841-9876-22FA606E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759-E4C4-4118-91FF-14258C41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5E23-1B74-45F6-8453-3BF4BE73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BDA-D7C6-45D7-8F94-5C2762D5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ECF-BEF3-4E7F-A512-17A50D7B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429-7DED-4E67-9F92-983A7E08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894-61B1-427F-9256-968B3622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17A-1AEF-42E3-9CFB-5CE5C305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E1C-7008-4915-A682-5D7BA767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DED-FDC6-4FEE-896F-9F2A7C5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A1A7-517C-4F68-AD1D-7E88EE2CA83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C7B4-0C7E-44E3-82DA-7093DE6DB6B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erything you wanted to know (but were afraid to ask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son, Chapter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“Odd” Democr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ak Party Identification (beyond the hardcore supporte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40% 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35% 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25% 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ass roots vs. party selection for po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didates run elections, not par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didates aren’t beholden to party for vo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the “oddness”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deralism (concentrate at local leve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ulated by state and federal law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le to be their “own” pers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 connected with executive off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oining is not a hass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 a major factor in social settings (blame regional sports in the U.S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alitions not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531800"/>
            <a:ext cx="9144000" cy="3689280"/>
            <a:chOff x="0" y="1531800"/>
            <a:chExt cx="9144000" cy="3689280"/>
          </a:xfrm>
        </p:grpSpPr>
        <p:sp>
          <p:nvSpPr>
            <p:cNvPr id="95" name=""/>
            <p:cNvSpPr/>
            <p:nvPr/>
          </p:nvSpPr>
          <p:spPr>
            <a:xfrm>
              <a:off x="0" y="1531800"/>
              <a:ext cx="562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31800"/>
              <a:ext cx="9144000" cy="36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36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3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.S. Political Par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1531800"/>
            <a:ext cx="9144000" cy="3689280"/>
            <a:chOff x="0" y="1531800"/>
            <a:chExt cx="9144000" cy="3689280"/>
          </a:xfrm>
        </p:grpSpPr>
        <p:sp>
          <p:nvSpPr>
            <p:cNvPr id="99" name=""/>
            <p:cNvSpPr/>
            <p:nvPr/>
          </p:nvSpPr>
          <p:spPr>
            <a:xfrm>
              <a:off x="0" y="1531800"/>
              <a:ext cx="562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531800"/>
              <a:ext cx="9144000" cy="36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36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0" y="1531800"/>
            <a:ext cx="9144000" cy="3689280"/>
            <a:chOff x="0" y="1531800"/>
            <a:chExt cx="9144000" cy="3689280"/>
          </a:xfrm>
        </p:grpSpPr>
        <p:sp>
          <p:nvSpPr>
            <p:cNvPr id="102" name=""/>
            <p:cNvSpPr/>
            <p:nvPr/>
          </p:nvSpPr>
          <p:spPr>
            <a:xfrm>
              <a:off x="0" y="1531800"/>
              <a:ext cx="562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531800"/>
              <a:ext cx="9144000" cy="36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36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4" name="T014293A" descr="Major U.S. Political Parties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ft or Righ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Lef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li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gress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R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ti-Federali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mocratic-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jor Third Par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82880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eologi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cialist Party, Communist Party, Green Party, Libertarian Par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e-issu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ree-soil, “Know-Nothing”, Prohibition, Woman’s Par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conomic prote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pulis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ct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gressives, Dixiecrats, Refor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ras in American Hist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nding (1789 – 182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ederalists vs. Anti-Federalists/Dem-Re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Federalis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acksonian Period (1824 – 184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crat vs. Whi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Jackson him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ras in American Hist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tionalism (1840 – 1876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crats vs. Whigs (and Republican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Slavery and Reconstru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ra of Reform (1876 – presen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crats vs. Republica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oversy:  Government in econom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alignm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828800"/>
            <a:ext cx="8208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rst peaceful transi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2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rst “heated” ele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ad to Civil War based around civil righ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9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ided social roles of the parties re: busin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3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ided social roles of the parties re: the peop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58:32Z</dcterms:created>
  <dc:creator>Brent J. Freccia</dc:creator>
  <dc:description/>
  <dc:language>en-US</dc:language>
  <cp:lastModifiedBy>Brent J. Freccia</cp:lastModifiedBy>
  <dcterms:modified xsi:type="dcterms:W3CDTF">2008-10-06T18:36:01Z</dcterms:modified>
  <cp:revision>2</cp:revision>
  <dc:subject/>
  <dc:title>Political Parties</dc:title>
</cp:coreProperties>
</file>